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9E4-049D-48F3-8E90-6EEBCBA7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3AD-37C1-48B2-B0F9-93B64914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FCE-78FA-4094-B324-2625A8B6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B11-3DDC-4A1E-B52E-D6B994F9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64ABA-13BE-4A54-BD9C-54B65EAE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3EF08-0EF3-4632-9B91-4AC35DE4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83B9D-FB61-4BCC-B109-6A61594C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B6961-F711-4CB8-92A1-C85820B4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AE71C-1416-42AD-953D-33AE452E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A3EA6-ECAC-47B0-98C7-2976956C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A07B3-03EB-4519-ACC9-5AC64146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954-675C-4B52-8272-961622A2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BB5ED-C3D8-4961-BA53-5ABBC39A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12B4D-3580-462B-9B72-98F50EB3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66D2B-FAB6-4774-BF50-A4908307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1E938-C550-431F-B0AA-06442A88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4A6FD-AA50-4D8E-8DEB-A17144EA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C80-7E01-4FFE-85A9-5C363EE2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812F-98BE-4D2C-A8EE-D6EAF704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771-8B52-469D-B517-77403905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A4A-1B7F-4F7E-8E7B-15406125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9F1-DE7F-4315-86DE-E0E5EAC2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60F-2C00-4398-B946-16CC6ACF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D0F-B2F9-4DF7-BFAE-A6A7F85C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0858-A409-4E52-A417-6CE1362A2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671D-3E0C-4E77-B697-36EFC5F8B1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2920" y="1341000"/>
            <a:ext cx="6481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Щ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т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Ж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ы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ш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Ланды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ш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Лы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М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ш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0024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488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47640" y="819000"/>
            <a:ext cx="56883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нежи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вш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мыш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0:02:01Z</dcterms:created>
  <dc:creator>Владелец</dc:creator>
  <dc:description/>
  <dc:language>en-US</dc:language>
  <cp:lastModifiedBy>Владелец</cp:lastModifiedBy>
  <dcterms:modified xsi:type="dcterms:W3CDTF">2013-04-21T01:02:18Z</dcterms:modified>
  <cp:revision>2</cp:revision>
  <dc:subject/>
  <dc:title> </dc:title>
</cp:coreProperties>
</file>